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77739-F241-4F82-B26E-6E12580BA7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26F4A-B69A-4BCB-8C9C-40EC40B9BA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68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0791-379C-43DD-96C8-11D27C0D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0357-1B3D-4393-BCD7-6F896BCB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8A43-0D8E-49AE-8C0C-89036259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8D89-27EE-406F-B1F1-B20CB673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3F23-E537-427C-8EC8-18ECB039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3D2C-E6B3-427E-91DB-B8E2BC2E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AAF5-719E-475F-AFB8-5F85871C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2A22-1CE3-41A9-8F4B-AD88A173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2970-1551-41D2-84EA-F31153F9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F0D1-CFBC-449F-8B64-B6DB6CCD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2464-5CB8-49F9-B065-6AE508A0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8A54-F5F7-4B96-917C-C9CA799A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F29E4B0C-33B7-481D-982C-01C51F4F5F97}" type="slidenum"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344600" y="923760"/>
            <a:ext cx="747540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Verdana"/>
                <a:ea typeface="Arial"/>
              </a:rPr>
              <a:t>Open the Eyes of My Hear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2016000"/>
            <a:ext cx="100807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Open the eyes of my heart, Lord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Open the eyes of my hear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I want to see You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I want to see You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(repeat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2016000"/>
            <a:ext cx="100807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To see you high and lifted  up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Shining in the light of Your glory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Pour out Your power and lov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As we sing holy, holy, holy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2016000"/>
            <a:ext cx="100807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Open the eyes of my heart, Lord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Open the eyes of my hear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I want to see You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I want to see You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(repeat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2016000"/>
            <a:ext cx="1008072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To see you high and lifted  up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Shining in the light of Your glory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Pour out Your power and lov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As we sing holy, holy, holy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(repeat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2016000"/>
            <a:ext cx="10080720" cy="43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Holy, holy, holy,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Holy, holy, holy,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Holy, holy, holy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I want to see you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(repeat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2016000"/>
            <a:ext cx="1008072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To see you high and lifted  up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Shining in the light of Your glory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Pour out Your power and lov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As we sing holy, holy, holy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(repeat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wade</cp:lastModifiedBy>
  <dcterms:modified xsi:type="dcterms:W3CDTF">2014-10-22T05:11:30Z</dcterms:modified>
  <cp:revision>4</cp:revision>
  <dc:subject/>
  <dc:title>Slide 1</dc:title>
</cp:coreProperties>
</file>